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CBE4-08BF-43E9-8074-CC0515F2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E926-D1C3-4E74-AFD2-7DA7BF51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7E1B-C1F2-435B-B861-3833AC8F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71EB-711C-480A-BD2D-FFE10934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320E-1124-4E48-BC9F-225ECCB7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4824-372B-497C-B247-F9A90F3D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A737-F1E7-41F4-8F8D-C77DB2C3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9E2-3556-42BF-B5F6-E1F6B469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6D57-3FFB-4B25-9119-936EFBC5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5A0C-7BF9-40E4-A941-84CBE84F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4475-FF96-4E24-A87C-41AAD0A6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9C44-5AE9-4A27-88F3-F467D489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ECDC-BBB1-473E-8719-EB6DC6936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ere to from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 have learnt so f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WCPFC measures (CMM 2006-01 &amp; 2005-01) established effort caps – but insufficient to address over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 management measures are being implemented by PNA members with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 that require ‘complimentary’ measures in the high seas (achieve equivalent effect but not necessari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should be established across PS and LL to be effective &amp; not pose disproportional burden on fish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to minimise impacts on skipjack and albacore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act at the next meeting ……no compromise o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 and compatible with EEZ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vess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catch limit (responsive to population siz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 all PS effort or FAD/log s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00% Observ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tag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ed PS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p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 discussion on co-operative management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closure say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depth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time of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mesh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n phase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L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 and compatible with EEZ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vessel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-like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catch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5% reduction  in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osed areas/seasons (in addition to above meas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bserver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 of high seas po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s of high seas until measures develop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address vulnerability in Eastern se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effort from non-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U ef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Pressure/ C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certification pressures/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S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dditional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of th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-eye and yellowfin measure which include compatible measure  eg VDS on High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iration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15:46Z</dcterms:created>
  <dc:creator>Higgins Amy</dc:creator>
  <dc:description/>
  <dc:language>en-US</dc:language>
  <cp:lastModifiedBy>SANTANA LARA</cp:lastModifiedBy>
  <dcterms:modified xsi:type="dcterms:W3CDTF">2008-04-14T06:35:43Z</dcterms:modified>
  <cp:revision>19</cp:revision>
  <dc:subject/>
  <dc:title>Where to from here?</dc:title>
</cp:coreProperties>
</file>